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4AD-D7A2-4673-8BAE-D9695F6A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89A-3EF0-4739-AC10-F6C60926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CB0-59B2-4504-8924-CA267934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8CB-B454-420D-B07C-5958DBA2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F24-D646-416F-9E6B-66E3C850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69A-9E00-476F-BD42-ECCD29A2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F2E-3C5E-4BA8-9BF7-1998EB0E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2C3-0571-40D4-9DD2-5A8E0102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C05-E58B-466C-9985-21289CA5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A35-0165-4A27-96FE-6236AA06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A1B-501D-4079-A0A4-0806F0E5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AFE-D07D-49BC-A044-F88A47DF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50E5-1D26-41AA-A6FF-696A33491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hinduonnet.com/thehindu/yw/2002/12/28/images/2002122800090302.jpg&amp;imgrefurl=http://www.hinduonnet.com/thehindu/yw/2002/12/28/stories/2002122800090300.htm&amp;h=340&amp;w=350&amp;sz=14&amp;hl=en&amp;start=19&amp;um=1&amp;tbnid=pKRwxT1gETz5PM:&amp;tbnh=117&amp;tbnw=120&amp;prev=/images%3Fq%3Dthe%2B7%2Bhabits%2Bof%2Bhighly%2Beffective%2Bteens%26um%3D1%26hl%3Den%26safe%3Dactive%26sa%3DN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1905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NRHS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Raider Pride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Make it Hap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33720" y="2362320"/>
            <a:ext cx="4724280" cy="4308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16200000">
            <a:off x="-1213200" y="3718440"/>
            <a:ext cx="389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April 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oactive Vs. Re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35268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Proactive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 with your super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be a hard-working 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at you can do to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ecessary, begin looking for a new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923160" y="4114800"/>
            <a:ext cx="222084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91120" y="1523880"/>
            <a:ext cx="335268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active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ain to everyone you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utinize the new employee to find his wea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convinced that your supervisor is out to ge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to slack off while working your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0556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he Victimitis Virus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ople infected with Victimitis think that everyone has it in for them and the world owes them somet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Reactive 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 Easily Off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ame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t Angry and Say things they Reg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nge only when they hav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ine and Com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it for things to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76800" y="4587840"/>
            <a:ext cx="3067200" cy="227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610320" y="4719600"/>
            <a:ext cx="2533680" cy="21384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Proactive People are a Different Breed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active peo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not easily off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responsibility for thei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 before they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unce back when something bad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 find a way t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“Make it Happ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us on things they can do something about and don’t worry about things they ca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Control Vs. No-Contr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295280"/>
            <a:ext cx="6553440" cy="556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2590920"/>
            <a:ext cx="3048120" cy="2895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19051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rcle of No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2971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le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3505320"/>
            <a:ext cx="23619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3276720"/>
            <a:ext cx="1600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of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Mist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Tu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556272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de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3276720"/>
            <a:ext cx="13716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eople’s thoughts &amp;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ill win the word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4368960"/>
            <a:ext cx="1905120" cy="2489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urning Setbacks into Trium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can deal us a bad hand and it’s up to us to control how we resp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not what happens to you in life, it’s what you do about i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much has been given to me.  I have no time to ponder that which has been denied.” – Helen K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evelop a “Can-Do” At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proactive really means two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Responsibility for you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a “Can-Do 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657600"/>
            <a:ext cx="358164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n-Do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initiative to “make it happ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Solutions &amp;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657600"/>
            <a:ext cx="388620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No-Can-Do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for Something to happen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problems &amp;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cted up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i="1" lang="en-US" sz="5400" spc="-1" strike="noStrike">
                <a:solidFill>
                  <a:srgbClr val="ff3300"/>
                </a:solidFill>
                <a:latin typeface="Comic Sans MS"/>
              </a:rPr>
              <a:t>Just Push Pause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life is moving so fast that we instantly react to everything out of sheer hab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smarter dec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how to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95880" y="4560840"/>
            <a:ext cx="3048120" cy="229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4 Human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stand apart from myself and observe my thoughts &amp; 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listen to my inner voice to know right from w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envision new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po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the power to cho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24480" y="4451400"/>
            <a:ext cx="2819520" cy="2406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Be Pro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pplication A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95120"/>
            <a:ext cx="7696080" cy="461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 a problem from your work or personal life that is frustrating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whether it is a direct, indirect, or no control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the first step you can take in your Circle of Influence to solve it and then take that ste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Whether I fail or Succeed shall be no man’s doing but my own.  I am the force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- Elaine Max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mericana BT"/>
              </a:rPr>
              <a:t>The 7 Habits of Highly Effective Te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4800600" cy="426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bit 1: Be pro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bit 2: Begin with the End i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bit 3: Put First Things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bit 4: Think Win-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bit 5: Seek First to Understand, Then to Be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bit 6: Synerg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bit 7: Sharpen the 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8077320" cy="1623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715000" y="2362320"/>
            <a:ext cx="305748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et in the Ha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irst make our habits, then our habits make u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P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Habits are things we do repeate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Fold your arm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ry folding your arms the opposite way.  How does that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Habit #1:  Be Pro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abit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s the key to unlocking all the other habits and that’s why it comes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t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th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the Captain of m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choose my 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responsible for my own happiness (or unhappines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in the driver’s seat of my destiny (not a passeng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72200" y="20574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oactive Vs. Re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active people make choices based on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ve people make choices based on impu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46840" y="4410000"/>
            <a:ext cx="2297160" cy="244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oactive Vs. Re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733920" cy="46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Proac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ll d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do better than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look at all our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hoos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’s gotta be a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not going to let your bad mood rub off on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089840" y="3924360"/>
            <a:ext cx="2054160" cy="2933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1600200"/>
            <a:ext cx="313200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ac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ll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just the way I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ruined m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oactive Vs. Re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cenario #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overhear your best friend bad-mouthing you in front of a group.  She doesn’t know you overheard the conversation.  Just five minutes ago, this same friend was sweet-talking you to your face.  You feel hurt and betra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oactive Vs. Re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32767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activ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her off, then hit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into a deep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she’s a two-faced liar and give her the silent treatment for 2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vicious rumors about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990720"/>
            <a:ext cx="31244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Reactiv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give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ront her and calmly share how you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it and give her a second ch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oactive Vs. Reac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 #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been working at your job in the store for over a year now and have been extremely committed and dependable.  Three months ago, a new employee joined the crew.  Recently, he was given the coveted Saturday afternoon shift, the shift you were hoping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8:42:37Z</dcterms:created>
  <dc:creator>North Rockland High School</dc:creator>
  <dc:description/>
  <dc:language>en-US</dc:language>
  <cp:lastModifiedBy>North Rockland High School</cp:lastModifiedBy>
  <dcterms:modified xsi:type="dcterms:W3CDTF">2008-04-07T19:32:32Z</dcterms:modified>
  <cp:revision>18</cp:revision>
  <dc:subject/>
  <dc:title> NRHS Raider Pride</dc:title>
</cp:coreProperties>
</file>